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6C3B-2854-4B84-89BA-F8DAF131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A2EB-D2FF-4CDD-BCE6-405BDCC4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390-EF02-459F-907B-59DD453E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298-CD11-4F35-83F0-EEA2BA3E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B3E-B5AF-4911-B8D7-0BB86A55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CF0-44C0-476C-AB0E-ACAE9070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E66A-8B39-48D1-8751-EB9A8CA6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8E5-C80B-4B5F-917F-B0DB0A15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8C6-C6D7-40C2-8953-784FA720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C13-96DF-48E5-8B22-8AE95B07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BF5-5ED0-42B4-84DE-102C4DCA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D73-83EF-464C-8B73-2F8ACE94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7E6B-4E38-4E18-BD3A-744E3D034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 Buď Bohu vždy č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Bohu vždy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áš zblúdený sv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ou milosťou k seb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navrátiť spä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, buď mu chv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Amen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Haleluja, večná chvá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spasenia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Synovi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a Baránkom st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za hriešnych z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svoj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, buď mu chv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Amen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Haleluja, večná chvá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spasenia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Duchu buď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ás privádza dne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Slovu pravdy a stále chc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e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, buď mu chv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Amen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Haleluja, večná chvá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spasenia deň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49:46Z</dcterms:modified>
  <cp:revision>5</cp:revision>
  <dc:subject/>
  <dc:title>Je veľký náš Pán, on slávy je Kráľ Nech do všetkých strán  spev vrúcnych znie chvál.</dc:title>
</cp:coreProperties>
</file>